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649-318A-44AC-83BE-8AE5FDBDC2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empty spa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the number ZER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when you just sit and be qui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ons spin (really fast) around the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whol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s are made of teeny tiny particles called protons, neutrons, and electrons. The green and orange dots in the in the middle are called the nucleus of the atom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this picture is not exactly how real atoms appear. We can imagine the atom a lot bigger to get an idea of what it actually looks like. 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the whole atom would be wider than the length of fifteen football fields!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o way…YES WAY!!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AT…DOES THIS MEA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 YOU REALLY WANT TO KNOW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ILL FREA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I PROMI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WHAT…DOES THIS ME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YOU READ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TY SPAC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 THE ATOM IS 99.9%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PTY SPACE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EANS THA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MADE OF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MEANS THA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LD YOU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FREAK YOU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D YOU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HIS B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HEAD DOWN 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mon…Try really har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very still…can you do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RUE BECAU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TRUE BECAUS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TOGETHER THEY MAKE WHAT WE SEE AS SOLID OBJECT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NECTIONS (between electrons) ARE MADE SOMETHING IS CREA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ASSIGN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HOME AND DO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IT QUIETLY FOR AT LEAST 15 MINUT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ASSIGNMEN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NOT TO THINK OF ANYTHING…B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IN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SOMETHING INTERESTING HAPPEN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IT DOWN…A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BACK AND TALK ABOUT 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FIN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NOW YOU KNOW THA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IS REALLY NO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n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 IS REALLY 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, NOW YOU KNOW THA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OU CAN MAK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YOU CAN IMAGINE!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YOU CAN MAK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F NOTH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thanks t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and Tony for wanting to learn ab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y thanks to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possible to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brain still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your heart still bea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it possible to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n’t you think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n’t you think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how do you get something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, how do you get something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 nihil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Latin word; it mea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 nihil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making somethin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OF 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 about making something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SSIBLE YOU SAY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OSSIBLE YOU SAY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AKE A LOOK AT THE AT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’S TAKE A LOOK AT THE AT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46D-45FC-45B3-B5AC-A8652AB1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B3E-3A81-413D-A698-8804FFED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34D1-C367-4FD3-9B75-D93699AD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A12-614D-4B02-B54C-6E4F797B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6F6F6-F1A8-433D-8A88-472F1AD3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C856-105F-406A-A319-B2253C8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B5C48-7E27-4520-B67E-A4CDE66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0ED95-87E1-4181-8D0F-870D8CBA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99EC0-BC5E-44C7-8F33-CE13B7DA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69FE5-F0CD-4CAF-8022-68F2296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33F2B-0F57-4CCD-B4EA-B5105870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956-0D4B-4E1D-92F1-78955732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0ADF77-6EFA-48ED-8FDD-0368CED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D99C2-A6F1-43A6-A80C-E7832CF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9F1B-24C3-4AE8-83A6-E9E769F4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8719-B254-4115-B5DD-88EFA3BB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A228A-639D-49CD-B7C4-6849ECC3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AA7-37DC-44BC-9E8D-2046340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A3F-C84B-4700-9291-BFFBCB7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598-2FB3-4207-9414-976AF2A7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066-B8B6-4704-9FB9-EE5740E4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299-863D-43FD-9822-A487E76E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2B6-F663-4731-AC27-1AB9B625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18B1-5B4A-4A96-BCBB-934CB9D0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5CF5-0A32-4C8F-90CB-5412D64C8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7C56-7205-40EC-9866-8BB851854B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What is Nothing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empty space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the number ZERO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it when you just sit and be quie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made of teeny tiny particles cal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tons, neutrons, and electr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 green and orange dots in the in the middle are called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ucleu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ato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lectrons spin (really fast) around the nucle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 in the whole Univer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lanets, stars, people, animals, plants) is made of Atom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atom"/>
          <p:cNvPicPr/>
          <p:nvPr/>
        </p:nvPicPr>
        <p:blipFill>
          <a:blip r:embed="rId1"/>
          <a:stretch/>
        </p:blipFill>
        <p:spPr>
          <a:xfrm>
            <a:off x="3429000" y="0"/>
            <a:ext cx="23623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98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98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But this picture is not exactly how real atoms appear. We can imagine the atom a lot bigger to get an idea of what it actually looks like. </a:t>
            </a: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4" descr="atom"/>
          <p:cNvPicPr/>
          <p:nvPr/>
        </p:nvPicPr>
        <p:blipFill>
          <a:blip r:embed="rId1"/>
          <a:stretch/>
        </p:blipFill>
        <p:spPr>
          <a:xfrm>
            <a:off x="2743200" y="2819520"/>
            <a:ext cx="3419640" cy="341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If the protons and neutrons were as wide as the tip of your finger, and the electrons were the diameter of one human hair…</a:t>
            </a:r>
            <a:br>
              <a:rPr sz="2800"/>
            </a:b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Then the </a:t>
            </a:r>
            <a:r>
              <a:rPr b="0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whole atom</a:t>
            </a:r>
            <a:r>
              <a:rPr b="0" lang="en-US" sz="2800" spc="-1" strike="noStrike">
                <a:solidFill>
                  <a:srgbClr val="e3e3ff"/>
                </a:solidFill>
                <a:latin typeface="Arial"/>
              </a:rPr>
              <a:t> would be wider than the length of </a:t>
            </a:r>
            <a:r>
              <a:rPr b="1" lang="en-US" sz="2800" spc="-1" strike="noStrike" u="sng">
                <a:solidFill>
                  <a:srgbClr val="e3e3ff"/>
                </a:solidFill>
                <a:uFillTx/>
                <a:latin typeface="Arial"/>
              </a:rPr>
              <a:t>fifteen football fields! </a:t>
            </a:r>
            <a:br>
              <a:rPr sz="28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no way…YES WAY!!)</a:t>
            </a:r>
            <a:br>
              <a:rPr sz="32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5" name="Picture 7" descr="atom"/>
          <p:cNvPicPr/>
          <p:nvPr/>
        </p:nvPicPr>
        <p:blipFill>
          <a:blip r:embed="rId1"/>
          <a:stretch/>
        </p:blipFill>
        <p:spPr>
          <a:xfrm>
            <a:off x="3363840" y="3265560"/>
            <a:ext cx="2552760" cy="26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O WHAT…DOES THIS MEAN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O YOU REALLY WANT TO KNOW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IS WILL F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 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I PROMI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609480" y="990720"/>
            <a:ext cx="8153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778120"/>
            <a:ext cx="940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Times New Roman"/>
              </a:rPr>
              <a:t>ARE YOU READY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IT MEANS THAT THE ATOM IS 99.9%</a:t>
            </a:r>
            <a:br>
              <a:rPr sz="6600"/>
            </a:b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EMPTY SPACE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TOM IS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MEANS THA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THING IS MADE OF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NOTHING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LD YOU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T WOULD FREAK YOU 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UT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CAN THIS BE TRU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NOW…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UT YOUR HEAD DOWN AN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O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’mon…Try really hard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 very still…can you do i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T IS TRUE BECAUSE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THESE ZILLIONS AND CABILLIONS OF ATOMS HOOK UP (LINK ELECTRONS)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OGETHE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MAKE WHAT WE SEE AS SOLID OBJECT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NEC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between electrons) ARE MADE SOMETHING IS CREA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Vinca"/>
          <p:cNvPicPr/>
          <p:nvPr/>
        </p:nvPicPr>
        <p:blipFill>
          <a:blip r:embed="rId1"/>
          <a:stretch/>
        </p:blipFill>
        <p:spPr>
          <a:xfrm>
            <a:off x="2743200" y="3581280"/>
            <a:ext cx="3121200" cy="234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ASSIGNMENT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O HOME AND DO NO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(SIT QUIETLY FOR AT LEAST 15 MINUT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N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NOT TO THINK OF ANYTHING…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SAME TIME PAY GENTLE ATTENTION TO WHAT POPS INTO YOUR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 FINALL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SOMETHING INTERESTING HAPPE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IT DOWN…A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 BACK AND TALK ABOUT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, NOW YOU KNOW THAT,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THING IS REALLY NOTH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nd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HING IS REALLY SOME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 YOU CAN MAK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T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 PAINTING, STICK CASTLE, DRESS, PAPER BIRDS, RUBBERBAND FANS, WOODEN CHICKENS, CARS, POSTERS, STORIES, ROBOTS, HOUSES,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THING YOU CAN IMAGINE!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OF NOTH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y thanks to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mas and Tony for wanting to learn about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THING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s it possible to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 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brain still work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your heart still beat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ren’t you thinking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thinker"/>
          <p:cNvPicPr/>
          <p:nvPr/>
        </p:nvPicPr>
        <p:blipFill>
          <a:blip r:embed="rId1"/>
          <a:stretch/>
        </p:blipFill>
        <p:spPr>
          <a:xfrm>
            <a:off x="5029200" y="1752480"/>
            <a:ext cx="2678040" cy="398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t, how do you get something…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O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THING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e3e3ff"/>
                </a:solidFill>
                <a:uFillTx/>
                <a:latin typeface="Arial"/>
              </a:rPr>
              <a:t>Ex nihilo</a:t>
            </a: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atin word; it mea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33520" y="2684520"/>
            <a:ext cx="988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OUT OF NOTHING”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ink about making something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OUT OF NOTH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IMPOSSIBLE YOU SAY??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MAYBE NO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 Narrow"/>
              </a:rPr>
              <a:t>LET’S TAKE A LOOK AT THE ATO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Picture 4" descr="atom"/>
          <p:cNvPicPr/>
          <p:nvPr/>
        </p:nvPicPr>
        <p:blipFill>
          <a:blip r:embed="rId1"/>
          <a:stretch/>
        </p:blipFill>
        <p:spPr>
          <a:xfrm>
            <a:off x="2286000" y="175248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.02292 0.05294 C 0.02986 0.03953 0.03698 0.02497 0.04392 0.00625 C 0.06285 -0.04715 0.06788 -0.09916 0.05399 -0.10702 C 0.03993 -0.1165 0.01285 -0.07905 -0.00608 -0.02565 C -0.01615 0.00232 -0.02205 0.0289 -0.02413 0.04901 C -0.02708 0.06496 -0.02812 0.08091 -0.02812 0.09963 C -0.02812 0.15951 -0.0151 0.20897 0 0.20897 C 0.01493 0.20897 0.02795 0.15951 0.02795 0.09963 C 0.02795 0.07166 0.025 0.04485 0.01997 0.02636 C 0.01788 0.01018 0.01285 -0.00716 0.00694 -0.0245 C -0.01302 -0.07905 -0.0401 -0.1165 -0.05417 -0.10702 C -0.06806 -0.09778 -0.06302 -0.04715 -0.04306 0.00763 C -0.03507 0.03283 -0.02413 0.05433 -0.01302 0.06889 C -0.00503 0.0823 0.00399 0.09432 0.01597 0.10634 C 0.05191 0.14494 0.08785 0.16228 0.09792 0.14633 C 0.10694 0.13038 0.08698 0.08623 0.05087 0.04901 C 0.03594 0.03283 0.01997 0.02104 0.00694 0.01295 C -0.00503 0.00486 -0.02014 -0.00184 -0.03611 -0.00577 C -0.08003 -0.01895 -0.11806 -0.01502 -0.12101 0.00625 C -0.125 0.02636 -0.09201 0.05294 -0.04809 0.06635 C -0.02812 0.07166 -0.00903 0.07421 0.0059 0.07305 C 0.01892 0.07305 0.03299 0.07028 0.04792 0.06635 C 0.09184 0.05294 0.125 0.02497 0.12083 0.00486 C 0.11788 -0.01502 0.07986 -0.02034 0.03594 -0.00716 C 0.01493 -0.00046 -0.00417 0.00902 -0.01701 0.01965 C -0.02812 0.02751 -0.03906 0.03699 -0.05104 0.04901 C -0.08611 0.08761 -0.10712 0.13038 -0.09705 0.14633 C -0.08802 0.16228 -0.05104 0.14494 -0.01615 0.10773 C 0.000869999999999999 0.089 0.01493 0.07028 0.02292 0.05294 Z">
                                      <p:cBhvr>
                                        <p:cTn id="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2T09:54:58Z</dcterms:modified>
  <cp:revision>20</cp:revision>
  <dc:subject/>
  <dc:title>PowerPoint Presentation</dc:title>
</cp:coreProperties>
</file>